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6D8-E204-4A76-A543-05A62486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D72-66BF-4E29-865D-8DBC8827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3CC-7DDC-42FB-B1F4-B84FAC4F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E74-43C2-45FE-993A-9E43ECA7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A45-EDAC-4ADD-BAA7-EEC046CB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60B-B4B3-4FB8-A960-57734B04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61B-56EC-4785-8CB4-FECB6CED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06A-F3A3-4F67-AAFE-4EA29F15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D55-FD94-4C54-974B-F99E2C0B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4C8-1987-45CF-9234-6C99CF86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4A4-1668-4A89-A338-0FF63D8D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0D7-9B78-4E60-9E73-A01F3042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B088-6A20-4328-A4AD-786F05CB4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126828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03280" y="3068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15   Left  and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51280" y="2637000"/>
            <a:ext cx="1619280" cy="1504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59280" y="3429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3429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635280" y="3573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076720" y="342864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887400"/>
            <a:ext cx="9144000" cy="9748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24000" y="162828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 your lef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,left,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 your righ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, right ,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hand, right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p,clap,cl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 your left f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,left,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 your right f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, right ,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,go,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4720" y="3573360"/>
            <a:ext cx="1846440" cy="208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117360"/>
            <a:ext cx="1870200" cy="1366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68360" y="692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692360" y="691920"/>
            <a:ext cx="720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132000" y="44280"/>
            <a:ext cx="1757520" cy="187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 flipV="1">
            <a:off x="4068360" y="907920"/>
            <a:ext cx="934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3640" y="9079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869080" y="44280"/>
            <a:ext cx="1877760" cy="181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96360" y="11239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089080" cy="172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1403280" y="386064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3213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484360" y="393372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 flipV="1">
            <a:off x="7235640" y="4869000"/>
            <a:ext cx="718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4797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494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213080" y="4653000"/>
            <a:ext cx="7178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7019640" y="907560"/>
            <a:ext cx="718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887400"/>
            <a:ext cx="9144000" cy="9748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2828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how me your left ey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ft,left,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how me your right ey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ight, right ,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ft eye, right ey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lap,clap,c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how me your left 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ft,left,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how me your right 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ight, right ,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o,go,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7280" y="1989000"/>
            <a:ext cx="4249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Say the chant to your best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Share the chant with your family me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6000" y="1484280"/>
            <a:ext cx="2016000" cy="936720"/>
          </a:xfrm>
          <a:prstGeom prst="wedgeRectCallout">
            <a:avLst>
              <a:gd name="adj1" fmla="val -53462"/>
              <a:gd name="adj2" fmla="val 9186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9539280" cy="783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11280" y="321300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ee  you lat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2 -0.05528 C 0.00643 -0.09021 0.03958 -0.14018 0.07899 -0.14018 C 0.13733 -0.14018 0.18472 -0.08836 0.18472 -0.0222 C 0.18472 -0.00115 0.17986 0.01851 0.17014 0.03632 C 0.17205 0.03632 -0.01232 0.29841 -0.01232 0.30072 C -0.01232 0.29841 -0.1967 0.03632 -0.19496 0.03632 C -0.20451 0.01851 -0.20903 -0.00115 -0.20903 -0.0222 C -0.20903 -0.08836 -0.16198 -0.14018 -0.10208 -0.14018 C -0.06441 -0.14018 -0.03107 -0.09021 -0.01232 -0.05528 Z">
                                      <p:cBhvr>
                                        <p:cTn id="8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6:55:09Z</dcterms:created>
  <dc:creator>ASUS</dc:creator>
  <dc:description/>
  <dc:language>en-US</dc:language>
  <cp:lastModifiedBy>User</cp:lastModifiedBy>
  <dcterms:modified xsi:type="dcterms:W3CDTF">2014-12-22T08:13:41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